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2D9-934E-4A7C-A0B9-9BFC90D5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C57-A317-4732-9B19-C5CB030D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1ED-B786-4AA4-8662-2C83BFCD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D7E-5EA5-43DA-BDD6-5ABB7C63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FD8C-06B2-4B9C-BC22-FB177353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6B4B-2C63-457C-AFEE-78D33DF1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F7EE-36C8-4F64-833E-90ED84B4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A7E8-B606-48BD-A956-78738C4F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75CA-6028-42EE-B49B-9EC36D39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5F6A-7ED9-4739-A2C0-4AC09EDE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B9B3-F126-4FB5-B276-399D98B0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F100-36E2-499F-922A-3BC8AD81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720E-D4F8-42A6-BF1A-32C702EC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5839-B238-49F5-B7B0-BB0F50E0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22B0-E6B3-413F-A482-36B175B1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8FA4-37AB-4FCA-849D-1AA67284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B83C-15A8-4F85-AD26-65EF0C86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A9FD-B6E1-463E-9D70-4C2F6707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741-8261-468B-99B2-181B1938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597E-04B4-4024-AD77-C90441CA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D94-826C-4B41-ACFF-EC966A79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4FD-6B2B-40CF-948D-4E529933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C0C-F608-4DCB-BB48-7D76784C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4BE-B641-44AD-8D73-615C498F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1998-6472-4F0F-A204-346C274DFD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C02A-D833-47C7-937E-EF944B1917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zereted a hagymát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419280" y="4653000"/>
            <a:ext cx="5545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it megismerünk,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zt jobban elfogadjuk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öröshagym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5821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koldalú gyógyhatás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ztmaell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ktériumöl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rut és bélgörcs ellen is j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ntos fűszernövé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gyasztható minden formá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164360" y="2421000"/>
            <a:ext cx="1428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lahagym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5605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öröshagyma egyik fajtá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ágyabb íz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llemesebb illat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yersen, salátaként fogyaszthat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64360" y="2421000"/>
            <a:ext cx="1428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khagym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039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ő- és Dél-Ázsiában ősho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ktérium- és gombaölő hatás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ökkenti a vérnyomá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őteljes ízű fűszernövé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08720" y="2565360"/>
            <a:ext cx="1428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etélőhagym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110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öldközi-tenger vidékéről származ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gyon magas C-vitamin tartalm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ssen vagy szárítva fogyaszthat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m szabad főzni, díszítésre val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380360" y="2421000"/>
            <a:ext cx="1428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óréhagym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58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iptomiak is ismerté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öröshagyma korai fajtá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ktérium- és vírusöl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as vastartalm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zdag A, B és C-vitamin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árolható, főzhet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236000" y="2565360"/>
            <a:ext cx="1428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edvehagym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596592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don nő, főleg bükkösök aljá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ra tavasztól szedhet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ss levele, hagymája fogyasztható virágzás elő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ára hasonlít a gyöngy-virágra, de szaga miatt nem keverhető össze ve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88000" y="2924280"/>
            <a:ext cx="23432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21:34:59Z</dcterms:created>
  <dc:creator>Rozgonyi-Borus Ferenc</dc:creator>
  <dc:description/>
  <dc:language>en-US</dc:language>
  <cp:lastModifiedBy>Rozgonyi-Borus Ferenc</cp:lastModifiedBy>
  <dcterms:modified xsi:type="dcterms:W3CDTF">2008-07-11T19:11:02Z</dcterms:modified>
  <cp:revision>9</cp:revision>
  <dc:subject/>
  <dc:title>1. dia</dc:title>
</cp:coreProperties>
</file>