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1EC-C8C4-4777-9BCD-9D934C8C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5280" y="388908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FFB-0744-4749-9AC9-5CF0B53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D21-CD15-4510-A473-D2F42F98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536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528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532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536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D99-632C-4B47-892E-5AD41B32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AD5-EA6B-4BB4-9696-5DA867A2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7411-05F9-4B1B-99E6-142B9B08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AF57-DF10-464D-8563-F4FDAF9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F8D-60C1-4B6B-9F5F-8FF433EF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57D6-30BA-4036-AAF5-BADE7BF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16000" y="214200"/>
            <a:ext cx="782784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88E-B7DE-4E3F-A607-8DB90A5A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966C-9E33-45AF-A274-927F7A68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54F-5836-47F6-894D-232198D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264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D6D2-DB38-4AAF-9B35-915DB1C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C470-B772-4D4E-8996-369B152B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388908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2A50-0927-457B-BA4D-93A9023B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264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9161-29C4-4D9C-AF95-8471C60A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5360" y="155736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532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5360" y="3889080"/>
            <a:ext cx="261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7F9-DBAB-483A-89A4-0C2FEC68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16C-A1C7-4281-9D48-C69E4C3C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511-45AF-4831-BDF9-C5901BA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D09-3D8E-45E9-AA75-34310E4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16000" y="214200"/>
            <a:ext cx="782784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438-1E78-4ECA-BE5A-DA7198D9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D75-84A3-4147-BAEE-7D6EDD2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88908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4D5-EE95-4CB8-8EC6-3323BAA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557360"/>
            <a:ext cx="3968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3889080"/>
            <a:ext cx="81327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4FF-D487-4B86-B606-C5425A3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126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126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556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D1A-437A-4E59-AC76-567633102C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B66-F86C-437C-95E9-3B6B132FBE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ict.sztaki.hu/docs/anagramma/" TargetMode="External"/><Relationship Id="rId2" Type="http://schemas.openxmlformats.org/officeDocument/2006/relationships/hyperlink" Target="http://dict.sztaki.hu/docs/anagramma/" TargetMode="External"/><Relationship Id="rId3" Type="http://schemas.openxmlformats.org/officeDocument/2006/relationships/hyperlink" Target="http://dict.sztaki.hu/docs/anagramma/" TargetMode="External"/><Relationship Id="rId4" Type="http://schemas.openxmlformats.org/officeDocument/2006/relationships/hyperlink" Target="http://dict.sztaki.hu/docs/anagramma/" TargetMode="External"/><Relationship Id="rId5" Type="http://schemas.openxmlformats.org/officeDocument/2006/relationships/hyperlink" Target="http://dict.sztaki.hu/docs/anagramma/" TargetMode="External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Anagram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32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Feladat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inti amfo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imfa okir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cskát zseni áhí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Verem jelmez: meghat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ent bűz, ilye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ézgás izsóp émelyí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„Mama”, ra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hu-H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dict.sztaki.hu</a:t>
            </a:r>
            <a:r>
              <a:rPr b="0" lang="hu-H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r>
              <a:rPr b="0" lang="hu-H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docs</a:t>
            </a:r>
            <a:r>
              <a:rPr b="0" lang="hu-H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/anagramma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659640" y="620640"/>
            <a:ext cx="19368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6:09:20Z</dcterms:created>
  <dc:creator>Rozgonyi-Borus Ferenc</dc:creator>
  <dc:description/>
  <dc:language>en-US</dc:language>
  <cp:lastModifiedBy>Rozgonyi-Borus Ferenc</cp:lastModifiedBy>
  <dcterms:modified xsi:type="dcterms:W3CDTF">2008-07-17T16:38:48Z</dcterms:modified>
  <cp:revision>21</cp:revision>
  <dc:subject/>
  <dc:title>1. dia</dc:title>
</cp:coreProperties>
</file>