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95E-578C-4B15-BBD7-1FA6574A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852-D2E4-4535-9879-5C45B21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006-A1A0-4F95-B4CF-2B76211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37F-3D31-42BE-8503-931B5011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918-3825-4F04-AC59-2A61A827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6A4-59FD-4C75-B048-3E661465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671-ED45-4280-A40E-8F29EFBA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D37-829D-41CF-9E9C-EFB52C4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01A-822B-4ADA-92E3-9F8D2C43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5D5-BD12-4DB8-A80D-9F867A2B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DD3-60F1-4F0E-AF6B-29EE5DD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462-E862-4905-8C9E-B9E9720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4E7-634C-467A-AEBF-08A69A15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k ezek az eszközö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3708360" y="5373720"/>
            <a:ext cx="9144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16:57Z</dcterms:created>
  <dc:creator>Rozgonyi-Borus Ferenc</dc:creator>
  <dc:description/>
  <dc:language>en-US</dc:language>
  <cp:lastModifiedBy>Rozgonyi-Borus Ferenc</cp:lastModifiedBy>
  <dcterms:modified xsi:type="dcterms:W3CDTF">2008-07-15T06:58:39Z</dcterms:modified>
  <cp:revision>4</cp:revision>
  <dc:subject/>
  <dc:title>1. dia</dc:title>
</cp:coreProperties>
</file>