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6B7-3F26-46CC-88E0-68B5A833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75C-4893-4C37-A452-C3184661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B24-2742-4DCF-A2F7-C1345A46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BAA-52BB-4915-88FA-4A487BAD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FE71-23F8-4EA9-A566-341BF4C0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0B27-C479-494B-99F2-DED3E70F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CD4A-9095-4936-910C-F3D74A33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C93F-B94F-4E48-A1B8-CAE48117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1249-338C-4498-AA07-58F04CC0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AAEB-DDC2-4C36-A018-00AABDCF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7A82-F6F5-437C-B554-DC90282C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F92-B1A3-4D6D-9596-89666B9C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E3DF-2FAE-4435-A5F8-76CC7BA6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F111-9AE9-402C-A5C8-E6E31D4A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3F12-5DB7-4C79-8F91-E5E098D2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9DC0-80AF-4E17-B1AC-3A8D78FC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80E9-68E3-4E75-8344-0A206EB6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C5F-AA69-43BD-B4FD-C029653C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DA8-996F-4277-9248-496B2647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063-B1E9-42A2-AC45-63043729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2B4-D3B1-48F4-B810-CFF32925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FD7-0135-4901-87EE-E2DF75B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64C-584E-4A32-B048-09476688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DC0-B023-4384-B82C-86392377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7469-9DF8-4DA5-9634-9339CCBAB2D9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25F3-6FF8-43D5-9C17-4A648B04B753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Mit tud a PDA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sebszámítógép szolgáltatá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PDA szolgáltatás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gyzetfüz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táridőnapl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ámológé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Ó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3 lejátsz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átékkonz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ktaf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épnézeget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ényképezőgé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mfelvev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ádi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sebtév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efonregisz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telef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9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6:21:39Z</dcterms:created>
  <dc:creator>Rozgonyi-Borus Ferenc</dc:creator>
  <dc:description/>
  <dc:language>en-US</dc:language>
  <cp:lastModifiedBy>Rozgonyi-Borus Ferenc</cp:lastModifiedBy>
  <dcterms:modified xsi:type="dcterms:W3CDTF">2008-07-14T16:42:31Z</dcterms:modified>
  <cp:revision>9</cp:revision>
  <dc:subject/>
  <dc:title>Találd ki, mi ez!</dc:title>
</cp:coreProperties>
</file>