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D75-485D-4565-947C-1B7C9573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085-875A-42F0-BC74-A627745B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B8E-6296-4E48-9AE4-7526C707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593-3DB2-44C8-942E-ED034EE8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D71-D391-4BB5-BC76-0E5015DB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084-B7A4-439C-889B-8C2AAFAC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4A3-3080-445F-8EAD-B30E34EF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B27-AD47-46DF-AD16-5C87E326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BE4-CB8F-4AB9-9D37-B81CC7FE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354-A58E-4DF8-B0CC-C1536EED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A05-C658-40F8-8636-0C94C5E4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8D3-ED7E-43C1-AEF5-18E60844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D621-EFD8-4039-86E5-CE6B54092AC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 tud a P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sebszámítógép szolgáltatá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DA szolgáltatá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gyzetfüz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táridőnap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ámológé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3 lejátsz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átékkonz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taf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pnézeg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ényképezőgé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felvev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ád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ebté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telef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6:21:39Z</dcterms:created>
  <dc:creator>Rozgonyi-Borus Ferenc</dc:creator>
  <dc:description/>
  <dc:language>en-US</dc:language>
  <cp:lastModifiedBy>Rozgonyi-Borus Ferenc</cp:lastModifiedBy>
  <dcterms:modified xsi:type="dcterms:W3CDTF">2008-07-14T15:58:12Z</dcterms:modified>
  <cp:revision>6</cp:revision>
  <dc:subject/>
  <dc:title>Találd ki, mi ez!</dc:title>
</cp:coreProperties>
</file>