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drumroll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C59-8764-40F5-8895-DF31CBC7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A7B-C8F2-4909-9645-25B8397E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C2E-6098-4A93-AFD9-CFB0BBEE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323-1B25-4550-8953-9DFFF1CD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D3E-7A0B-4724-B857-836D513C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9C4-8C35-4362-B46E-08B0B1BE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318-4616-4257-90B2-3EFB9E4B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FE1-8A5D-4386-933E-7F618EA1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B7C-AE5A-4D58-8724-C1D448FF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657-6AB4-4B78-8DAE-27B1D3F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1E6-1E14-4EA7-B037-D3C7120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C4C-A738-4011-8681-74B6C62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7DE-FFEF-44D5-863F-F09C1B3F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tud a P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sebszámítógép szolgáltatá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1441440" cy="127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11280" y="2131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237440" y="34624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48360" y="5157720"/>
            <a:ext cx="190512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284720" y="2276640"/>
            <a:ext cx="1441440" cy="122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187960" y="3583080"/>
            <a:ext cx="1905120" cy="135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93236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835280" y="5373720"/>
            <a:ext cx="1584360" cy="12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95280" y="5300640"/>
            <a:ext cx="1127160" cy="133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08000" y="356076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50920" y="2131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124000" y="3500280"/>
            <a:ext cx="1873440" cy="13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4002120" y="3573360"/>
            <a:ext cx="1146240" cy="1459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7164360" y="1916280"/>
            <a:ext cx="1763640" cy="142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k ezek az eszközö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3780000" y="5300640"/>
            <a:ext cx="9428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3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2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1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9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8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7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6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1441440" cy="127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11280" y="2131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237440" y="34624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948360" y="5157720"/>
            <a:ext cx="1905120" cy="154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284720" y="2276640"/>
            <a:ext cx="1441440" cy="122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187960" y="3583080"/>
            <a:ext cx="1905120" cy="135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493236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835280" y="5373720"/>
            <a:ext cx="1584360" cy="12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95280" y="5300640"/>
            <a:ext cx="1127160" cy="133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108000" y="356076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250920" y="2131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2124000" y="3500280"/>
            <a:ext cx="1873440" cy="138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4002120" y="3573360"/>
            <a:ext cx="1146240" cy="145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164360" y="1916280"/>
            <a:ext cx="1763640" cy="1422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 az 1-ben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>
            <a:off x="3780000" y="5300640"/>
            <a:ext cx="942840" cy="1230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6"/>
          <a:stretch/>
        </p:blipFill>
        <p:spPr>
          <a:xfrm>
            <a:off x="2771640" y="1628640"/>
            <a:ext cx="36198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3767 L 0.18108 0.0252 E">
                                      <p:cBhvr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90476E-006 L 0.17326 0.2203 E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49191E-006 L -0.14167 -0.24133 E">
                                      <p:cBhvr>
                                        <p:cTn id="7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71059E-007 L -0.18108 0.0104 E">
                                      <p:cBhvr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3.03745E-006 L -0.20468 0.22029 E">
                                      <p:cBhvr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3.41193E-006 L -0.04723 0.22007 E">
                                      <p:cBhvr>
                                        <p:cTn id="8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3625E-008 L 0.05503 -0.26213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1.43319E-006 L 0.22829 -0.25173 E">
                                      <p:cBhvr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6385E-006 L -0.38594 0.27277 E">
                                      <p:cBhvr>
                                        <p:cTn id="10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78086E-006 L 0.38594 0.22006 E">
                                      <p:cBhvr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8641E-006 L 0.40937 -0.27277 E">
                                      <p:cBhvr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76468E-006 L -0.37014 -0.24133 E">
                                      <p:cBhvr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01711E-007 L -0.37795 0.0104 E">
                                      <p:cBhvr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04808E-006 L 0.39375 2.04808E-006 E">
                                      <p:cBhvr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7:16:57Z</dcterms:created>
  <dc:creator>Rozgonyi-Borus Ferenc</dc:creator>
  <dc:description/>
  <dc:language>en-US</dc:language>
  <cp:lastModifiedBy>Rozgonyi-Borus Ferenc</cp:lastModifiedBy>
  <dcterms:modified xsi:type="dcterms:W3CDTF">2008-07-15T08:52:59Z</dcterms:modified>
  <cp:revision>6</cp:revision>
  <dc:subject/>
  <dc:title>1. dia</dc:title>
</cp:coreProperties>
</file>