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F14E-2648-4A07-8B95-F1822B35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3C8B-86C6-4C7C-AF19-82A1FBC3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1A2B-44A4-464F-85C8-ABAFE4AC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D70-4569-45F3-BA75-B2D29DC7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AB8E-53C6-4F5A-BAC2-71FF4C1D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7ADB-A156-4BFE-92B0-BAB0499C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CB9D-11AE-448A-9D06-1525FF4E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4E6B-F803-46CA-88F0-D97637F3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2A17-1F10-404C-ABB3-F10B658B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21DE-884E-4D32-8859-A9C8EAD8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5F8A-10BA-4CCD-89E2-1DDFDC12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2BDA-4C7E-4D0B-9DB3-6EE80E80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8476-94AD-4B93-8419-4A46F39C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B3C8-B254-47FD-9C45-B9287083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3BAD-979C-498D-831C-17FC273D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91B3-AA8C-4DE6-A730-B034420A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15AE-B3DD-4E52-B125-43C8AFEB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956-072B-4D39-B22C-26660B2B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A4B-B16F-4767-9B93-FB192209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804-7794-4AE7-BC4A-1707EC36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8CC-CF86-4CDE-901A-7F3AD548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1B3-8368-4EC4-870A-2B4070B4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6EC-A5A3-481F-B9E9-9CA82CCB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DA2-D5E2-45B7-AE44-666F0CD1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3264-5665-41AD-B782-1398D2DF6B9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1137-09D4-46D7-8F64-69F1606923C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Higgy a szemednek!?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Mindent elhiszel,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amit látsz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1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árhuzamo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114960" cy="458784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árhuzamo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114960" cy="458784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árhuzamo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114960" cy="458784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gyene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114960" cy="458784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gyene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114960" cy="458784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14:38:14Z</dcterms:created>
  <dc:creator>Rozgonyi-Borus Ferenc</dc:creator>
  <dc:description/>
  <dc:language>en-US</dc:language>
  <cp:lastModifiedBy>Rozgonyi-Borus Ferenc</cp:lastModifiedBy>
  <dcterms:modified xsi:type="dcterms:W3CDTF">2008-06-01T15:32:12Z</dcterms:modified>
  <cp:revision>3</cp:revision>
  <dc:subject/>
  <dc:title>Higgy a szemednek!</dc:title>
</cp:coreProperties>
</file>