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7593-1438-4E9B-B71F-1064F5BE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527-03DD-4E79-BD05-AFB37749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968-7DB5-4C3D-984E-F9CD8233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869-E9B4-480F-8295-B51B59D8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4D62-BA44-40B9-A20A-F0451862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6273-71F5-412A-81A0-B5EEAE28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C25F-F4E2-4063-B769-039FBF6C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4FC5-B6B3-4727-ABB7-5CF6A6D3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52B7-23C0-476F-8213-A3841EE3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66A2-E9B6-4154-8B95-477D06D2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9282-A0BB-4483-B80E-74CF4AA6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F30-CF03-4582-99A0-9C7EA13D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CD29-4D52-416B-822C-41E971CB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5545-9D6D-4661-8B34-A6E2BAB4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B8D2-D5AE-44EB-B77C-77A5A2E9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B52C-F7C5-4E90-87BD-4ABA6627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DFF2-A1A4-423B-B093-70D4ABCE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89D-E2B1-486F-B90A-828C39B2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BDC4-13F2-416C-A442-1329F784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DB2-F2C3-4B0C-AC17-E1ED7DB3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E6F-ADE8-469C-97F3-186138AF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FB9-F9A7-4720-B118-F8B4A834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9FD-33AE-41F6-90F7-D28AA562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46FE-F5F1-40FF-B36E-1393D89A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60B8-0467-40CE-9E52-6E8589AAB94C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C18F-C2ED-4284-9EC1-BD48C81E0484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mzetijelkepek.hu/" TargetMode="External"/><Relationship Id="rId2" Type="http://schemas.openxmlformats.org/officeDocument/2006/relationships/hyperlink" Target="http://www.nemzetijelkepek.hu/" TargetMode="External"/><Relationship Id="rId3" Type="http://schemas.openxmlformats.org/officeDocument/2006/relationships/hyperlink" Target="http://www.nemzetijelkepek.hu/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unántúli várak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észítette Nagy Ot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ősze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1798560"/>
            <a:ext cx="6524640" cy="4894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97840" y="358920"/>
            <a:ext cx="1650960" cy="12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árvá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0" y="358920"/>
            <a:ext cx="1219320" cy="1563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98560" y="1798560"/>
            <a:ext cx="6502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üme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898560" y="1798560"/>
            <a:ext cx="6524640" cy="4894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56400" y="358920"/>
            <a:ext cx="121932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ráso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73440" y="2133360"/>
            <a:ext cx="591336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otók saját készítésű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címerek forráshelye:</a:t>
            </a:r>
            <a:br>
              <a:rPr sz="2600"/>
            </a:br>
            <a:r>
              <a:rPr b="0" lang="hu-HU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hu-HU" sz="2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nemzetijelkepek.hu</a:t>
            </a:r>
            <a:r>
              <a:rPr b="0" lang="hu-HU" sz="2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/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044720" y="2852640"/>
            <a:ext cx="12157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20:00:19Z</dcterms:created>
  <dc:creator>Rozgonyi-Borus Ferenc</dc:creator>
  <dc:description/>
  <dc:language>en-US</dc:language>
  <cp:lastModifiedBy>Rozgonyi-Borus Ferenc</cp:lastModifiedBy>
  <dcterms:modified xsi:type="dcterms:W3CDTF">2008-07-15T21:37:15Z</dcterms:modified>
  <cp:revision>4</cp:revision>
  <dc:subject/>
  <dc:title>1. dia</dc:title>
</cp:coreProperties>
</file>